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69F-4B47-4EBA-A60B-2190CAF5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F2D-773B-4301-B445-A5262CE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7D6-9CE7-43C8-A3EF-8C207A0D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FA3-5E7E-444B-B3E9-8D367B3B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102-3ADF-44B1-9826-A919D744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0BE-BCA7-4010-BE53-ED349A00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6806-A341-4DA8-B09A-99D379AB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AEFA-3D11-478F-991B-BDB01FB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5BE-FD07-4BFB-994B-1299B0E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C20-296A-4DEF-9499-D244FBA5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2B2A-249C-462B-9755-5D7E6B9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6C3-37CF-4988-8312-10C4A6E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628F-0A70-445F-BDDB-450AB0A3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A14-96C9-4F82-8923-C36208A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6AF8-EF38-4982-9485-28CC976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73B2-9D2A-40DB-AEBB-C0670946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8A00-2AF4-4D38-80E8-94076E72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7B22-0531-45C1-8D2E-AACE2A08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3254-939E-4539-B32F-297A7F93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E9CC-7F27-4A2F-B99C-A49731E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9073-BF58-468E-9C33-0F1A1483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D0CD-2690-46B1-89A1-DFA5246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4BB-D6B8-4180-BF5D-500210B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FDCB-3F11-43E8-8D99-78CF19A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36D8-E2D8-4E30-9B33-5D46DF8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CCD3-E1B4-43C3-ABDF-AA7CAA46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51A1-478E-45E6-B07D-AF40B31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CB31-DC67-43A9-BFCC-258C876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A95F-7C72-4A7C-83E1-B1203E7E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B166-7922-403E-AD6B-C10D052C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556D-467A-4B04-B322-C1581909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DD6F-9046-47B9-A5EB-025517A4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5D0E-D174-4BF0-878F-035C880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818-D2F5-4506-85AF-E41776F6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7745-EC36-4A1D-B1A5-44012C3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8611-F63E-40F6-A6D7-4BFCF4FB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221C-C0EB-47EF-9167-5ED76947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EEC1-C68D-4436-B6D5-F04AE15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0A0C-312B-4C39-8433-4F75376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BAB1-B26A-4829-BF83-4BEF044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E5A4-4FD1-4055-ADF6-0CA4D5E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A172-5892-4660-89F9-DE01D336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3245-20BF-48BC-ADB2-4D5DB82A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43692-31BF-426F-BC22-F679DBB7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9E1-4B5E-47A0-A456-85EF991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D68F30-EAFE-4548-ACD9-6E984DDA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5B2A7-E458-404D-979A-9757110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6015B-10D2-43FC-8EBF-548C5A4D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8459B-631C-41F8-88DD-6D145C9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EF8CE-F22F-4C90-8C65-2F14280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A4776-21A5-4664-8E20-7178040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9E1EB-D678-4764-89FD-0777CFEE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2B27B4-0C97-4AB5-A8F7-53BA472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95C53-CC0C-42C2-B844-3E46B9B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96B31-BA74-4297-8E6B-80983AA0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297-18D3-4A04-9557-A65A32B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553B3C-F34C-48E8-B42E-B18FAD0E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0F8C-1CE0-4D3B-A6D4-8CB88F45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16F37-C93A-4025-B1FF-1CDB2B8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9DCC-3455-43D9-89FE-65660CEC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8E8A9-5E56-401C-A55B-8B5FAF6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B934-39EB-4ED0-939E-22E1F29B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C5E9B-C656-454C-95AE-01E60643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798D-6D57-4008-A80C-A04E8EAD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A1C3-97B0-464B-8F3C-D28FCAD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AE2C9-4DD1-41AB-B38B-B90ED57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9C2-4E3D-447B-B922-AE6F016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64B2-D901-4335-8A0F-13AF76B2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EF40-D50E-40FD-BC66-7AE6828B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20A9-68F4-4D88-9559-D28AB2EA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6D2-114B-4F89-B4F5-BABA97D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F15-A5E0-4281-AEC4-CC81255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264E-2EEA-42AA-8482-562A3C15B25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905-74A8-4341-B663-604383B2276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BD05-26B4-4129-B5E4-BBA555A9A2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9CE-FF28-4018-9B4B-10F369E50B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0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CBA-204B-43F3-A731-DE7BBAA84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6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9955-EC22-4D33-98B0-A66019B69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e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 where the red army (communists) defended  the Bolshevik government from the white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anti Bolshevik authorities app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 </dc:creator>
  <dc:description/>
  <dc:language>en-US</dc:language>
  <cp:lastModifiedBy>wong</cp:lastModifiedBy>
  <dcterms:modified xsi:type="dcterms:W3CDTF">2010-12-20T02:21:58Z</dcterms:modified>
  <cp:revision>3</cp:revision>
  <dc:subject/>
  <dc:title>MOTHER RUSSIA’S PAST</dc:title>
</cp:coreProperties>
</file>